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BC50B-DE31-4E7B-9181-04BD1B847F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60DBB-E12F-455F-9F72-C3245FD0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4422C-10CA-4614-885A-AC19792A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46243-1A45-464C-A9BF-CC726D2CF9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ECB10-3885-4A92-88CB-F10F9F8A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3BE70-E030-4104-BE17-1CBEBE05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9467A-6917-4BE2-A169-621D0E6D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E4E99-3E73-4F07-8D17-49D371B61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7950F-3C2D-4119-A392-8CF7A88DD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0C3FF-4B3D-4B78-B3CB-799955B6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452DC-B8D8-493B-BCA0-94B5DC24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0F442-BB20-4A76-B68C-7CCC1618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56A4-664E-45DB-ACD0-51563A2560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907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六章 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食管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，患者出现了胸闷、气急、心悸症状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练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呼吸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管插管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深呼吸，有效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多、咳痰无力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需持续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胃肠减压管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胃肠减压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管一般应保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情绪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肺部并发症的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生活习惯、饮食因素、遗传因素、疾病因素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主要特征性症状为进食哽咽感、异物感、胸骨后烧灼样、针刺样或牵拉摩擦样疼痛。中晚期主要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等综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，做好呼吸道与肠道准备；术后注意观察伤口及引流情况，及时发现出血、吻合口瘘、乳糜胸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食管癌术后常见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食管癌患者的临床表现和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食管癌术后容易发生吻合口瘘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消化系统常见的恶性肿瘤之一。据估计全世界每年大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未见任何阳性体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4.0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,Hb 8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镜检查：食管中段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长管腔狭窄，黏膜中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报告：鳞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Ⅱ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物停滞感或异物感、哽噎感、胸骨后灼烧样、针刺样或牵拉摩擦样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及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纤维光学内窥镜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核素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食管癌的首选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镜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免疫治疗及中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肺不张、肺炎、出血、吻合口瘘、乳糜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12:11:12Z</dcterms:modified>
  <cp:revision>88</cp:revision>
  <dc:subject/>
  <dc:title>内科护理学</dc:title>
</cp:coreProperties>
</file>